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863-9928-4B73-80AA-3D5CB72C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04C-4EE8-4CE9-90C1-2FC7F81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F44-10F9-4445-85CC-8723175F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01C-BFC0-4BFC-B0AE-47DDF406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F98-D4F1-4C97-87DD-AA70F99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AE2-1F52-4CB5-AA67-36272A2E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75B-1480-4AD1-9964-C77194E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D2E-B506-443C-BF3B-00154342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61C-5DE4-400F-A4E8-6B27EB57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3DD-58F1-48BD-85AD-6AA1A23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CA4-CC39-4AC4-902C-47631BE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32B-35D6-4AC1-8709-18B6100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45C-2A61-4CCF-8FBE-89962310E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January.wav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June.wav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tmp/home/.config/libreoffice/4/user/gallery/July.wav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tmp/home/.config/libreoffice/4/user/gallery/September.wav" TargetMode="External"/><Relationship Id="rId9" Type="http://schemas.openxmlformats.org/officeDocument/2006/relationships/image" Target="../media/image5.png"/><Relationship Id="rId10" Type="http://schemas.openxmlformats.org/officeDocument/2006/relationships/hyperlink" Target="file:///tmp/home/.config/libreoffice/4/user/gallery/October.wav" TargetMode="External"/><Relationship Id="rId11" Type="http://schemas.openxmlformats.org/officeDocument/2006/relationships/image" Target="../media/image5.png"/><Relationship Id="rId12" Type="http://schemas.openxmlformats.org/officeDocument/2006/relationships/hyperlink" Target="file:///tmp/home/.config/libreoffice/4/user/gallery/November.wav" TargetMode="External"/><Relationship Id="rId13" Type="http://schemas.openxmlformats.org/officeDocument/2006/relationships/image" Target="../media/image5.png"/><Relationship Id="rId14" Type="http://schemas.openxmlformats.org/officeDocument/2006/relationships/hyperlink" Target="file:///tmp/home/.config/libreoffice/4/user/gallery/August.wav" TargetMode="External"/><Relationship Id="rId15" Type="http://schemas.openxmlformats.org/officeDocument/2006/relationships/image" Target="../media/image6.png"/><Relationship Id="rId16" Type="http://schemas.openxmlformats.org/officeDocument/2006/relationships/hyperlink" Target="file:///tmp/home/.config/libreoffice/4/user/gallery/February.wav" TargetMode="External"/><Relationship Id="rId17" Type="http://schemas.openxmlformats.org/officeDocument/2006/relationships/image" Target="../media/image2.png"/><Relationship Id="rId18" Type="http://schemas.openxmlformats.org/officeDocument/2006/relationships/hyperlink" Target="file:///tmp/home/.config/libreoffice/4/user/gallery/May.wav" TargetMode="External"/><Relationship Id="rId19" Type="http://schemas.openxmlformats.org/officeDocument/2006/relationships/image" Target="../media/image7.png"/><Relationship Id="rId20" Type="http://schemas.openxmlformats.org/officeDocument/2006/relationships/hyperlink" Target="file:///tmp/home/.config/libreoffice/4/user/gallery/March.wav" TargetMode="External"/><Relationship Id="rId21" Type="http://schemas.openxmlformats.org/officeDocument/2006/relationships/image" Target="../media/image8.png"/><Relationship Id="rId22" Type="http://schemas.openxmlformats.org/officeDocument/2006/relationships/hyperlink" Target="file:///tmp/home/.config/libreoffice/4/user/gallery/April.wav" TargetMode="External"/><Relationship Id="rId23" Type="http://schemas.openxmlformats.org/officeDocument/2006/relationships/image" Target="../media/image9.png"/><Relationship Id="rId24" Type="http://schemas.openxmlformats.org/officeDocument/2006/relationships/hyperlink" Target="file:///tmp/home/.config/libreoffice/4/user/gallery/December.wav" TargetMode="External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6018" r="0" b="0"/>
          <a:stretch/>
        </p:blipFill>
        <p:spPr>
          <a:xfrm>
            <a:off x="250920" y="189000"/>
            <a:ext cx="8713800" cy="614052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1"/>
          <p:cNvGrpSpPr/>
          <p:nvPr/>
        </p:nvGrpSpPr>
        <p:grpSpPr>
          <a:xfrm>
            <a:off x="1390680" y="4761000"/>
            <a:ext cx="1650960" cy="573120"/>
            <a:chOff x="1390680" y="4761000"/>
            <a:chExt cx="1650960" cy="573120"/>
          </a:xfrm>
        </p:grpSpPr>
        <p:pic>
          <p:nvPicPr>
            <p:cNvPr id="43" name="Прямоугольник 1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390680" y="4761000"/>
              <a:ext cx="16509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24160" y="4795920"/>
              <a:ext cx="1584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Janu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3"/>
          <p:cNvGrpSpPr/>
          <p:nvPr/>
        </p:nvGrpSpPr>
        <p:grpSpPr>
          <a:xfrm>
            <a:off x="6145200" y="4761000"/>
            <a:ext cx="1650960" cy="573120"/>
            <a:chOff x="6145200" y="4761000"/>
            <a:chExt cx="1650960" cy="573120"/>
          </a:xfrm>
        </p:grpSpPr>
        <p:pic>
          <p:nvPicPr>
            <p:cNvPr id="46" name="Прямоугольник 3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145200" y="4761000"/>
              <a:ext cx="16509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80120" y="4795920"/>
              <a:ext cx="1584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Ju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4"/>
          <p:cNvGrpSpPr/>
          <p:nvPr/>
        </p:nvGrpSpPr>
        <p:grpSpPr>
          <a:xfrm>
            <a:off x="1481040" y="5340240"/>
            <a:ext cx="1573200" cy="573120"/>
            <a:chOff x="1481040" y="5340240"/>
            <a:chExt cx="1573200" cy="573120"/>
          </a:xfrm>
        </p:grpSpPr>
        <p:pic>
          <p:nvPicPr>
            <p:cNvPr id="49" name="Прямоугольник 4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1481040" y="5340240"/>
              <a:ext cx="1573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514520" y="5373720"/>
              <a:ext cx="15048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Ju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5"/>
          <p:cNvGrpSpPr/>
          <p:nvPr/>
        </p:nvGrpSpPr>
        <p:grpSpPr>
          <a:xfrm>
            <a:off x="1359000" y="5857920"/>
            <a:ext cx="1652400" cy="573120"/>
            <a:chOff x="1359000" y="5857920"/>
            <a:chExt cx="1652400" cy="573120"/>
          </a:xfrm>
        </p:grpSpPr>
        <p:pic>
          <p:nvPicPr>
            <p:cNvPr id="52" name="Прямоугольник 5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1359000" y="5857920"/>
              <a:ext cx="16524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92120" y="5894280"/>
              <a:ext cx="1584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2060"/>
                  </a:solidFill>
                  <a:latin typeface="Arial"/>
                </a:rPr>
                <a:t>Septe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оугольник 6"/>
          <p:cNvGrpSpPr/>
          <p:nvPr/>
        </p:nvGrpSpPr>
        <p:grpSpPr>
          <a:xfrm>
            <a:off x="3024360" y="4743360"/>
            <a:ext cx="1650960" cy="571680"/>
            <a:chOff x="3024360" y="4743360"/>
            <a:chExt cx="1650960" cy="571680"/>
          </a:xfrm>
        </p:grpSpPr>
        <p:pic>
          <p:nvPicPr>
            <p:cNvPr id="55" name="Прямоугольник 6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3024360" y="4743360"/>
              <a:ext cx="16509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56040" y="4776840"/>
              <a:ext cx="1584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Octo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рямоугольник 7"/>
          <p:cNvGrpSpPr/>
          <p:nvPr/>
        </p:nvGrpSpPr>
        <p:grpSpPr>
          <a:xfrm>
            <a:off x="6145200" y="5315040"/>
            <a:ext cx="1650960" cy="573120"/>
            <a:chOff x="6145200" y="5315040"/>
            <a:chExt cx="1650960" cy="573120"/>
          </a:xfrm>
        </p:grpSpPr>
        <p:pic>
          <p:nvPicPr>
            <p:cNvPr id="58" name="Прямоугольник 7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145200" y="5315040"/>
              <a:ext cx="16509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180120" y="5348160"/>
              <a:ext cx="1584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2060"/>
                  </a:solidFill>
                  <a:latin typeface="Arial"/>
                </a:rPr>
                <a:t>Nove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Прямоугольник 8"/>
          <p:cNvGrpSpPr/>
          <p:nvPr/>
        </p:nvGrpSpPr>
        <p:grpSpPr>
          <a:xfrm>
            <a:off x="4595760" y="5894280"/>
            <a:ext cx="1596960" cy="573120"/>
            <a:chOff x="4595760" y="5894280"/>
            <a:chExt cx="1596960" cy="573120"/>
          </a:xfrm>
        </p:grpSpPr>
        <p:pic>
          <p:nvPicPr>
            <p:cNvPr id="61" name="Прямоугольник 8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4595760" y="5894280"/>
              <a:ext cx="15969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633920" y="5925960"/>
              <a:ext cx="1527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Augu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9"/>
          <p:cNvGrpSpPr/>
          <p:nvPr/>
        </p:nvGrpSpPr>
        <p:grpSpPr>
          <a:xfrm>
            <a:off x="3017880" y="5321160"/>
            <a:ext cx="1650960" cy="573120"/>
            <a:chOff x="3017880" y="5321160"/>
            <a:chExt cx="1650960" cy="573120"/>
          </a:xfrm>
        </p:grpSpPr>
        <p:pic>
          <p:nvPicPr>
            <p:cNvPr id="64" name="Прямоугольник 9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3017880" y="5321160"/>
              <a:ext cx="16509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49560" y="5354640"/>
              <a:ext cx="1584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Febru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10"/>
          <p:cNvGrpSpPr/>
          <p:nvPr/>
        </p:nvGrpSpPr>
        <p:grpSpPr>
          <a:xfrm>
            <a:off x="6199200" y="5877000"/>
            <a:ext cx="1622520" cy="573120"/>
            <a:chOff x="6199200" y="5877000"/>
            <a:chExt cx="1622520" cy="573120"/>
          </a:xfrm>
        </p:grpSpPr>
        <p:pic>
          <p:nvPicPr>
            <p:cNvPr id="67" name="Прямоугольник 10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6199200" y="5877000"/>
              <a:ext cx="16225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232680" y="5913360"/>
              <a:ext cx="155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M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11"/>
          <p:cNvGrpSpPr/>
          <p:nvPr/>
        </p:nvGrpSpPr>
        <p:grpSpPr>
          <a:xfrm>
            <a:off x="4614840" y="4761000"/>
            <a:ext cx="1577880" cy="549360"/>
            <a:chOff x="4614840" y="4761000"/>
            <a:chExt cx="1577880" cy="549360"/>
          </a:xfrm>
        </p:grpSpPr>
        <p:pic>
          <p:nvPicPr>
            <p:cNvPr id="70" name="Прямоугольник 11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4614840" y="4761000"/>
              <a:ext cx="1577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648320" y="4794120"/>
              <a:ext cx="1511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M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12"/>
          <p:cNvGrpSpPr/>
          <p:nvPr/>
        </p:nvGrpSpPr>
        <p:grpSpPr>
          <a:xfrm>
            <a:off x="4614840" y="5303880"/>
            <a:ext cx="1577880" cy="573120"/>
            <a:chOff x="4614840" y="5303880"/>
            <a:chExt cx="1577880" cy="573120"/>
          </a:xfrm>
        </p:grpSpPr>
        <p:pic>
          <p:nvPicPr>
            <p:cNvPr id="73" name="Прямоугольник 12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4614840" y="5303880"/>
              <a:ext cx="1577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0" y="5335560"/>
              <a:ext cx="1505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2060"/>
                  </a:solidFill>
                  <a:latin typeface="Arial"/>
                </a:rPr>
                <a:t>Apr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13"/>
          <p:cNvGrpSpPr/>
          <p:nvPr/>
        </p:nvGrpSpPr>
        <p:grpSpPr>
          <a:xfrm>
            <a:off x="2975040" y="5907240"/>
            <a:ext cx="1657440" cy="549000"/>
            <a:chOff x="2975040" y="5907240"/>
            <a:chExt cx="1657440" cy="549000"/>
          </a:xfrm>
        </p:grpSpPr>
        <p:pic>
          <p:nvPicPr>
            <p:cNvPr id="76" name="Прямоугольник 13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2975040" y="5907240"/>
              <a:ext cx="16574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11400" y="5938920"/>
              <a:ext cx="1584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2060"/>
                  </a:solidFill>
                  <a:latin typeface="Arial"/>
                </a:rPr>
                <a:t>Dece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Наталья</cp:lastModifiedBy>
  <dcterms:modified xsi:type="dcterms:W3CDTF">2023-11-22T18:52:22Z</dcterms:modified>
  <cp:revision>51</cp:revision>
  <dc:subject/>
  <dc:title>Слайд 1</dc:title>
</cp:coreProperties>
</file>